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E163C-6793-4792-A3D5-424D5FC91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A848-F5E0-4D5B-A9B3-E7FC06AF1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0787-D595-4811-8AAE-26EE049D8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8CB2-D319-47F0-ADDC-88BA2595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981D-5692-4562-BC17-E6A27C829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FAF7-9573-4528-80C1-2B70552F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F822-F84A-4213-BF49-B967AFC5F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0058-4F61-4D53-B2E4-235F3D6E9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36B65-49B6-4380-851C-24BEA4C0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C5E4B-CE8D-426A-8A68-B650B7C2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8146-7A99-488E-8434-5BCCDBFD3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52D84-8299-4639-BA28-40EA2D3F1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ED575-55B4-4E83-82DD-E7B71AA5970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08:25Z</dcterms:created>
  <dc:creator>INVES-S6600A</dc:creator>
  <dc:description/>
  <dc:language>en-US</dc:language>
  <cp:lastModifiedBy>INVES-S6600A</cp:lastModifiedBy>
  <dcterms:modified xsi:type="dcterms:W3CDTF">2010-11-23T13:07:03Z</dcterms:modified>
  <cp:revision>1</cp:revision>
  <dc:subject/>
  <dc:title>Diapositiva 1</dc:title>
</cp:coreProperties>
</file>